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9334B-8DD2-4B8A-B633-932E5AE51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19C4B-734E-46BE-9D98-BD76F9F65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7702E-1BC2-4653-B7CD-3E86E2B4F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BCF1F-C303-447B-9220-50BC468C6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31379-3F15-445C-8284-A8F65F1B8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29EE2-3FB9-4923-805B-EE9573FFD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C6140-A0AD-4FFA-AF80-9EAF343D0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AF9F6-D7E8-4F6E-833A-3F189995D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245AA-62A5-4708-B8D1-78344B7F0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266FA-E99C-42F9-AF4E-E31678894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4BDB1-48D8-4B17-B36C-C60974070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08D1E-4B41-4FE2-B6F5-F0A308DC6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F259-F7C4-4C9B-856A-A51F3FEC06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ithaca.edu/looksharp/"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ocialstudiesforkids.com/subjects/ancientcivilizations.ht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12  Outline</a:t>
            </a:r>
            <a:br>
              <a:rPr sz="4400"/>
            </a:b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Teaching and Learning with Technology in Social Studies Instruction</a:t>
            </a:r>
            <a:endParaRPr b="0" lang="en-US" sz="3600" spc="-1" strike="noStrike">
              <a:solidFill>
                <a:srgbClr val="000000"/>
              </a:solidFill>
              <a:latin typeface="Calibri"/>
            </a:endParaRPr>
          </a:p>
        </p:txBody>
      </p:sp>
      <p:pic>
        <p:nvPicPr>
          <p:cNvPr id="43" name="Picture 2" descr="C:\Documents and Settings\macdonmi\Local Settings\Temporary Internet Files\Content.IE5\QS937PBQ\MP900437333[1].jpg"/>
          <p:cNvPicPr/>
          <p:nvPr/>
        </p:nvPicPr>
        <p:blipFill>
          <a:blip r:embed="rId1"/>
          <a:stretch/>
        </p:blipFill>
        <p:spPr>
          <a:xfrm>
            <a:off x="7467480" y="1066680"/>
            <a:ext cx="1384560" cy="23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mary Purpose of Social Studies</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t>
            </a:r>
            <a:r>
              <a:rPr b="1" lang="en-US" sz="3600" spc="-1" strike="noStrike">
                <a:solidFill>
                  <a:srgbClr val="000000"/>
                </a:solidFill>
                <a:latin typeface="Calibri"/>
              </a:rPr>
              <a:t>.is to prepare the young of today to be the citizen’s of tomorrow.  It is necessary to examine how technology tools impact, improve and otherwise affect teaching and learning in social studies”. (John Lee and Adam Friedman, </a:t>
            </a:r>
            <a:r>
              <a:rPr b="1" i="1" lang="en-US" sz="3600" spc="-1" strike="noStrike">
                <a:solidFill>
                  <a:srgbClr val="000000"/>
                </a:solidFill>
                <a:latin typeface="Calibri"/>
              </a:rPr>
              <a:t>Research on Technology in Social Studies Education</a:t>
            </a:r>
            <a:r>
              <a:rPr b="1" lang="en-US" sz="3600" spc="-1" strike="noStrike">
                <a:solidFill>
                  <a:srgbClr val="000000"/>
                </a:solidFill>
                <a:latin typeface="Calibri"/>
              </a:rPr>
              <a:t>, 200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utcome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Recognize the implications for technology integration of each current issue faced by SS teac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reate Key strategies for integrating technology into curricul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nalyze given scenarios to identify examples of tech-PACK needs and challenges that are specific to 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quired Social Studies Standards</a:t>
            </a:r>
            <a:br>
              <a:rPr sz="4000"/>
            </a:br>
            <a:r>
              <a:rPr b="1" lang="en-US" sz="4000" spc="-1" strike="noStrike">
                <a:solidFill>
                  <a:srgbClr val="000000"/>
                </a:solidFill>
                <a:latin typeface="Calibri"/>
              </a:rPr>
              <a:t>2010</a:t>
            </a: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dress overall curriculum design and comprehensive student performance expec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CSS=National Council for the Social Stud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mes: Range from Culture to Time/Continuity/Change to Power/Authority and Governance to Civic Ideals and Practices.  10 themes in tot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es in Teaching Social Studies</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s versus reality</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fferent perspective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ime line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echnology changes and learning curves relating to these change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ample Sites Provided in </a:t>
            </a:r>
            <a:br>
              <a:rPr sz="4400"/>
            </a:br>
            <a:r>
              <a:rPr b="1" lang="en-US" sz="4400" spc="-1" strike="noStrike">
                <a:solidFill>
                  <a:srgbClr val="000000"/>
                </a:solidFill>
                <a:latin typeface="Calibri"/>
              </a:rPr>
              <a:t>Chapter 12</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ous sites provided and charts provided for use with themes 1 to 10 – keep in mind US cont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exam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a Construction of War – Project Look Sharp for theme 8 Science, Technology and Socie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ithaca.edu/lookshar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dapting for Special Need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 with all chapters in this text, chapter 12 also provides ideas for Adapting Social Studies for Special Needs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Studies for Kids – current events written at low reading lev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socialstudiesforkids.com/subjects/ancientcivilizations.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Tech-PACK Needs in Social Studies</a:t>
            </a:r>
            <a:br>
              <a:rPr sz="4000"/>
            </a:b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Studies Content  Knowledge – Social Studies is very broad and this increases as the grade levels go up from K-12 - need PD for differe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Studies Pedagogical Knowledge – teachers need to acquire technological learning – need PD for them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Studies Technological Knowledge – need PD depending on skill leve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rap Up Chapter 12</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e page 348 for TOP TEN Strategies List for Integrating Technology in Social Studies Instruction – excellent li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rt Chapter – direct in topic information presen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y resources given for websi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C:\Documents and Settings\macdonmi\Local Settings\Temporary Internet Files\Content.IE5\QS937PBQ\MC900434784[1].png"/>
          <p:cNvPicPr/>
          <p:nvPr/>
        </p:nvPicPr>
        <p:blipFill>
          <a:blip r:embed="rId1"/>
          <a:stretch/>
        </p:blipFill>
        <p:spPr>
          <a:xfrm>
            <a:off x="6400800" y="3962520"/>
            <a:ext cx="2438280" cy="24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9T15:44:53Z</dcterms:created>
  <dc:creator>Province of NS</dc:creator>
  <dc:description/>
  <dc:language>en-US</dc:language>
  <cp:lastModifiedBy>Mike</cp:lastModifiedBy>
  <dcterms:modified xsi:type="dcterms:W3CDTF">2012-07-13T10:17:12Z</dcterms:modified>
  <cp:revision>19</cp:revision>
  <dc:subject/>
  <dc:title>Slide 1</dc:title>
</cp:coreProperties>
</file>